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A15B-5545-44D8-8841-7235C163E67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A10-BAFD-44E4-863E-EBBA47F4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2A9-45C3-48D9-BE4E-1E77942A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975-3719-4FF7-8A2F-1BBAAFEB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283-DCF6-48DB-80F4-2494A466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9E83-0CDE-42FF-8FF7-2F106DEF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C3C6-9045-4EF0-83A3-851046E9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E6F2-7673-40D7-AAFD-9BF26C8F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9F89-322C-457C-BA52-51F81809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0D9B-A914-40E8-8982-456A2D73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4A14-DF02-4AA5-B342-6609C1C0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1E04-2B0A-4185-8157-B01A1107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E162-9A64-4269-AD79-1501874A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1142-D996-425D-A259-0C7563E7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F442-A011-4051-80E3-E5025D0A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53CE-8107-4B19-8F4B-4B041ABF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4893-CB2E-48AA-AEFE-5004D5FD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4BFF-2B6F-4054-8DCE-D8629F97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34D-2132-40C8-A849-6115153E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C9A-6C2B-4A79-B172-1AC37EC3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BA5-D357-48DE-B338-A69917F0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9BE-FA0A-4651-8CBD-BCB6A6BD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409-7F66-4B69-8E49-83BCA449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DE8-9E32-45EB-9356-9BEB9F88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0B3-4E3A-464A-A69F-7CBCD784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817E-E149-470F-A476-A94C588A28B2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F8D7-2BD7-4C3A-82BF-18338C528CC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496960" y="2060640"/>
            <a:ext cx="41500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0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0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5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60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500"/>
                            </p:stCondLst>
                            <p:childTnLst>
                              <p:par>
                                <p:cTn id="80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6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7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8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9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9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8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6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0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500"/>
                            </p:stCondLst>
                            <p:childTnLst>
                              <p:par>
                                <p:cTn id="9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8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6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500"/>
                            </p:stCondLst>
                            <p:childTnLst>
                              <p:par>
                                <p:cTn id="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4000"/>
                            </p:stCondLst>
                            <p:childTnLst>
                              <p:par>
                                <p:cTn id="97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450"/>
                            </p:stCondLst>
                            <p:childTnLst>
                              <p:par>
                                <p:cTn id="102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250"/>
                            </p:stCondLst>
                            <p:childTnLst>
                              <p:par>
                                <p:cTn id="103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300"/>
                            </p:stCondLst>
                            <p:childTnLst>
                              <p:par>
                                <p:cTn id="105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850"/>
                            </p:stCondLst>
                            <p:childTnLst>
                              <p:par>
                                <p:cTn id="10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7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7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8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400"/>
                            </p:stCondLst>
                            <p:childTnLst>
                              <p:par>
                                <p:cTn id="11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3900"/>
                            </p:stCondLst>
                            <p:childTnLst>
                              <p:par>
                                <p:cTn id="1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4900"/>
                            </p:stCondLst>
                            <p:childTnLst>
                              <p:par>
                                <p:cTn id="1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3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69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650"/>
                            </p:stCondLst>
                            <p:childTnLst>
                              <p:par>
                                <p:cTn id="12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8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550"/>
                            </p:stCondLst>
                            <p:childTnLst>
                              <p:par>
                                <p:cTn id="12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6050"/>
                            </p:stCondLst>
                            <p:childTnLst>
                              <p:par>
                                <p:cTn id="12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6550"/>
                            </p:stCondLst>
                            <p:childTnLst>
                              <p:par>
                                <p:cTn id="1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50"/>
                            </p:stCondLst>
                            <p:childTnLst>
                              <p:par>
                                <p:cTn id="129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550"/>
                            </p:stCondLst>
                            <p:childTnLst>
                              <p:par>
                                <p:cTn id="130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200"/>
                            </p:stCondLst>
                            <p:childTnLst>
                              <p:par>
                                <p:cTn id="132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750"/>
                            </p:stCondLst>
                            <p:childTnLst>
                              <p:par>
                                <p:cTn id="133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134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4900"/>
                            </p:stCondLst>
                            <p:childTnLst>
                              <p:par>
                                <p:cTn id="135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450"/>
                            </p:stCondLst>
                            <p:childTnLst>
                              <p:par>
                                <p:cTn id="136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6050"/>
                            </p:stCondLst>
                            <p:childTnLst>
                              <p:par>
                                <p:cTn id="137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6700"/>
                            </p:stCondLst>
                            <p:childTnLst>
                              <p:par>
                                <p:cTn id="138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7200"/>
                            </p:stCondLst>
                            <p:childTnLst>
                              <p:par>
                                <p:cTn id="139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7750"/>
                            </p:stCondLst>
                            <p:childTnLst>
                              <p:par>
                                <p:cTn id="14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8250"/>
                            </p:stCondLst>
                            <p:childTnLst>
                              <p:par>
                                <p:cTn id="14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6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0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2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6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0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4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8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0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9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3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5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9" dur="5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3" dur="5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0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9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3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0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6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0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4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3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38:29Z</dcterms:modified>
  <cp:revision>650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