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91BF-31C1-4DAB-AA0E-777830BA7D2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FDE-F2E4-43F4-BA05-DEE165F3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3BE-642F-4259-A467-744E1963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70B-3392-4B37-893A-2506C94A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CE9-C05C-4488-8B7A-2DE91A6C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D949-150F-43E8-9927-99672535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A1E6-3070-405E-B36F-AAB2ACA9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11BF-70FB-4AFB-ABF7-069D2F21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CBFC-7B93-4E9C-A3D4-EAAF9808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8D20-E853-4F70-A799-CA78FA32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C750-AAD0-4026-B0EE-FE293E5D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1BAC-29A5-4463-AF23-FAF8645B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708-0CE7-43D1-B642-C4878FC6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B6BA-0335-4125-A221-0B08C1AC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728D-388C-4F6B-B41C-3D31E2BA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9D70-AE08-47F9-A982-B0A52B1D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1467-744D-4BA9-A7DC-6A9E343F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8055-E352-4F13-881F-15B6475E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FB4-0FC9-461A-BD2D-BE6C9317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E9F-630B-4C6C-B088-3ADBC2CF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D5F-FDDE-40A0-85BE-C9110083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AC5-FFA8-40A8-8A9B-8E062D04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15E-0E26-49A6-B572-2030DF12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2D6-0253-44FD-ABA5-0D50C65D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9C0-D34E-45D1-97C1-B2BBB4F1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B10C-E2B7-4AC1-BB39-B65CC546C85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AEA0-8D4F-4D01-8349-865AB55549F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496960" y="2060640"/>
            <a:ext cx="41500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0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60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500"/>
                            </p:stCondLst>
                            <p:childTnLst>
                              <p:par>
                                <p:cTn id="80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6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7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8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9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9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8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6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0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500"/>
                            </p:stCondLst>
                            <p:childTnLst>
                              <p:par>
                                <p:cTn id="9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8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6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500"/>
                            </p:stCondLst>
                            <p:childTnLst>
                              <p:par>
                                <p:cTn id="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4000"/>
                            </p:stCondLst>
                            <p:childTnLst>
                              <p:par>
                                <p:cTn id="97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450"/>
                            </p:stCondLst>
                            <p:childTnLst>
                              <p:par>
                                <p:cTn id="102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250"/>
                            </p:stCondLst>
                            <p:childTnLst>
                              <p:par>
                                <p:cTn id="103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300"/>
                            </p:stCondLst>
                            <p:childTnLst>
                              <p:par>
                                <p:cTn id="105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850"/>
                            </p:stCondLst>
                            <p:childTnLst>
                              <p:par>
                                <p:cTn id="10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7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7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8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400"/>
                            </p:stCondLst>
                            <p:childTnLst>
                              <p:par>
                                <p:cTn id="11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3900"/>
                            </p:stCondLst>
                            <p:childTnLst>
                              <p:par>
                                <p:cTn id="1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4900"/>
                            </p:stCondLst>
                            <p:childTnLst>
                              <p:par>
                                <p:cTn id="1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3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69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650"/>
                            </p:stCondLst>
                            <p:childTnLst>
                              <p:par>
                                <p:cTn id="1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8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550"/>
                            </p:stCondLst>
                            <p:childTnLst>
                              <p:par>
                                <p:cTn id="12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6050"/>
                            </p:stCondLst>
                            <p:childTnLst>
                              <p:par>
                                <p:cTn id="12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6550"/>
                            </p:stCondLst>
                            <p:childTnLst>
                              <p:par>
                                <p:cTn id="1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50"/>
                            </p:stCondLst>
                            <p:childTnLst>
                              <p:par>
                                <p:cTn id="129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550"/>
                            </p:stCondLst>
                            <p:childTnLst>
                              <p:par>
                                <p:cTn id="130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200"/>
                            </p:stCondLst>
                            <p:childTnLst>
                              <p:par>
                                <p:cTn id="132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750"/>
                            </p:stCondLst>
                            <p:childTnLst>
                              <p:par>
                                <p:cTn id="133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134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4900"/>
                            </p:stCondLst>
                            <p:childTnLst>
                              <p:par>
                                <p:cTn id="135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450"/>
                            </p:stCondLst>
                            <p:childTnLst>
                              <p:par>
                                <p:cTn id="136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6050"/>
                            </p:stCondLst>
                            <p:childTnLst>
                              <p:par>
                                <p:cTn id="137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6700"/>
                            </p:stCondLst>
                            <p:childTnLst>
                              <p:par>
                                <p:cTn id="138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7200"/>
                            </p:stCondLst>
                            <p:childTnLst>
                              <p:par>
                                <p:cTn id="139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7750"/>
                            </p:stCondLst>
                            <p:childTnLst>
                              <p:par>
                                <p:cTn id="14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8250"/>
                            </p:stCondLst>
                            <p:childTnLst>
                              <p:par>
                                <p:cTn id="14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6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0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2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6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0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4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8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0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9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5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9" dur="5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3" dur="5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0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9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3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0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0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4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3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38:29Z</dcterms:modified>
  <cp:revision>650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