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5.wmf" ContentType="image/x-wmf"/>
  <Override PartName="/ppt/media/image7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508A-1928-43FF-B3C8-E7246A2475F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68D7-2F94-4F9F-8173-1127C61BC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FF84-4DDC-4D7D-9905-C0337D7C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FE29-5A42-4CB9-B043-5F8A0CF1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ADC6-1DCB-470D-AB1C-9C8F05C9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8936-1F43-4CFA-AF73-DD2AA59B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5700-8A99-401C-82CC-FFE0A988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2125-E5D4-48BD-BBD3-BADD145A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FF56-A0E6-4EE2-B84C-093AFC04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FF16-D857-443B-9389-7C918390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346B-D1CC-4CBC-B3D4-4ACB64B7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9BEF-C2DF-493A-A27A-9F9E05D5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4761-940C-47B7-9EA9-3CFA944F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5BBA-2C28-4D5E-9353-7283D019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997E-470C-4F43-AD4C-C41688E8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69DC-FF99-4EA0-B623-4847DC17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74D0-7DDF-4E6E-BD67-6F8BDCA0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B03B-256E-462B-9DBA-C24D7341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74C3-5271-4231-8989-36C2371E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58C6-F8F6-4F17-A140-1DE3FCD3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64DC-5B83-40A4-8142-538BDA31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B7A3-C157-4856-9865-BC7D8E73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1BF9-9C8A-4700-B36A-6D419806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C8DC-BD78-4010-8CC3-7DAA9B1D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DD8E-0713-449C-A47F-4BC2B31E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F645-4698-4464-923C-0B23E81DFC3A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A824-9884-40A3-B9E7-103FD3ED509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image" Target="../media/image15.wmf"/><Relationship Id="rId16" Type="http://schemas.openxmlformats.org/officeDocument/2006/relationships/image" Target="../media/image15.wmf"/><Relationship Id="rId17" Type="http://schemas.openxmlformats.org/officeDocument/2006/relationships/image" Target="../media/image15.wmf"/><Relationship Id="rId18" Type="http://schemas.openxmlformats.org/officeDocument/2006/relationships/image" Target="../media/image15.wmf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0.png"/><Relationship Id="rId22" Type="http://schemas.openxmlformats.org/officeDocument/2006/relationships/image" Target="../media/image15.wmf"/><Relationship Id="rId23" Type="http://schemas.openxmlformats.org/officeDocument/2006/relationships/image" Target="../media/image15.wmf"/><Relationship Id="rId24" Type="http://schemas.openxmlformats.org/officeDocument/2006/relationships/image" Target="../media/image15.wmf"/><Relationship Id="rId25" Type="http://schemas.openxmlformats.org/officeDocument/2006/relationships/image" Target="../media/image15.wmf"/><Relationship Id="rId26" Type="http://schemas.openxmlformats.org/officeDocument/2006/relationships/image" Target="../media/image15.wmf"/><Relationship Id="rId27" Type="http://schemas.openxmlformats.org/officeDocument/2006/relationships/image" Target="../media/image15.wmf"/><Relationship Id="rId28" Type="http://schemas.openxmlformats.org/officeDocument/2006/relationships/image" Target="../media/image15.wmf"/><Relationship Id="rId29" Type="http://schemas.openxmlformats.org/officeDocument/2006/relationships/image" Target="../media/image15.wmf"/><Relationship Id="rId30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5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9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2496960" y="2060640"/>
            <a:ext cx="41500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RONDA URUGUAY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GATT reglas de conducta negativas: limitaciones de Estados para discriminar mercaderías en sus políticas comerci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Integración económica llevó la negociación a la esfera de la capacidad regulatoria de cada uno de los Estados (propiedad intelectual, servicios, inversiones, medio ambiente, trabaj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INCIPIO NO DISCRIMIN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Nación Más Favorecida (NM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7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1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ncepto: (Artículo I del GATT 199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da miembro debe conceder a cualquier otro el tratamiento más favorable que concede a otro miembro respecto a las importaciones o exportaciones de producto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John Jack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9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3500"/>
                            </p:stCondLst>
                            <p:childTnLst>
                              <p:par>
                                <p:cTn id="6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 DESVÍ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s preferen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rechos antidumping y compensatorios (V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láusula de escape (artículo XI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epciones general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reas de libre comercio y Uniones Aduaneras (artículo XX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ratamiento especial y diferenciado para países no desarrol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ódigos de la Ronda Tok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 Generalizado de Prefer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4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8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2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000"/>
                            </p:stCondLst>
                            <p:childTnLst>
                              <p:par>
                                <p:cTn id="7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6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500"/>
                            </p:stCondLst>
                            <p:childTnLst>
                              <p:par>
                                <p:cTn id="7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0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4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500"/>
                            </p:stCondLst>
                            <p:childTnLst>
                              <p:par>
                                <p:cTn id="7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8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2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obligación por la cual el tratamiento de las importaciones, una vez que culminado los trámites aduaneros, sea igual que el recibido por las mercaderías producidas loc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evitar que las políticas tributarias y de regulación sean utilizadas en forma proteccion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0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6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3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40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5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60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6500"/>
                            </p:stCondLst>
                            <p:childTnLst>
                              <p:par>
                                <p:cTn id="80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65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70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7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80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8500"/>
                            </p:stCondLst>
                            <p:childTnLst>
                              <p:par>
                                <p:cTn id="82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8500"/>
                            </p:stCondLst>
                            <p:childTnLst>
                              <p:par>
                                <p:cTn id="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900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95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1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1500"/>
                            </p:stCondLst>
                            <p:childTnLst>
                              <p:par>
                                <p:cTn id="8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2500"/>
                            </p:stCondLst>
                            <p:childTnLst>
                              <p:par>
                                <p:cTn id="8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88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 (MERCADERÍAS) 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cep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as gubernamentales (artículo III:8 a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idios domésticos (artículo III:8 b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lículas cinematográficas (artículo III: 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íticas de desarrollo económico (artículo XVI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 seguridad artículo XX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4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8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500"/>
                            </p:stCondLst>
                            <p:childTnLst>
                              <p:par>
                                <p:cTn id="9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2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2000"/>
                            </p:stCondLst>
                            <p:childTnLst>
                              <p:par>
                                <p:cTn id="9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6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0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4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3500"/>
                            </p:stCondLst>
                            <p:childTnLst>
                              <p:par>
                                <p:cTn id="9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8" dur="500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00"/>
                            </p:stCondLst>
                            <p:childTnLst>
                              <p:par>
                                <p:cTn id="9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6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6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6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500"/>
                            </p:stCondLst>
                            <p:childTnLst>
                              <p:par>
                                <p:cTn id="9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500"/>
                            </p:stCondLst>
                            <p:childTnLst>
                              <p:par>
                                <p:cTn id="9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4000"/>
                            </p:stCondLst>
                            <p:childTnLst>
                              <p:par>
                                <p:cTn id="97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4500"/>
                            </p:stCondLst>
                            <p:childTnLst>
                              <p:par>
                                <p:cTn id="9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04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0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12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450"/>
                            </p:stCondLst>
                            <p:childTnLst>
                              <p:par>
                                <p:cTn id="102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250"/>
                            </p:stCondLst>
                            <p:childTnLst>
                              <p:par>
                                <p:cTn id="103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2800"/>
                            </p:stCondLst>
                            <p:childTnLst>
                              <p:par>
                                <p:cTn id="104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3300"/>
                            </p:stCondLst>
                            <p:childTnLst>
                              <p:par>
                                <p:cTn id="105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850"/>
                            </p:stCondLst>
                            <p:childTnLst>
                              <p:par>
                                <p:cTn id="106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37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7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58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0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3400"/>
                            </p:stCondLst>
                            <p:childTnLst>
                              <p:par>
                                <p:cTn id="116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3900"/>
                            </p:stCondLst>
                            <p:childTnLst>
                              <p:par>
                                <p:cTn id="11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4900"/>
                            </p:stCondLst>
                            <p:childTnLst>
                              <p:par>
                                <p:cTn id="11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3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69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650"/>
                            </p:stCondLst>
                            <p:childTnLst>
                              <p:par>
                                <p:cTn id="12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2850"/>
                            </p:stCondLst>
                            <p:childTnLst>
                              <p:par>
                                <p:cTn id="12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5550"/>
                            </p:stCondLst>
                            <p:childTnLst>
                              <p:par>
                                <p:cTn id="12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6050"/>
                            </p:stCondLst>
                            <p:childTnLst>
                              <p:par>
                                <p:cTn id="12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6550"/>
                            </p:stCondLst>
                            <p:childTnLst>
                              <p:par>
                                <p:cTn id="12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2050"/>
                            </p:stCondLst>
                            <p:childTnLst>
                              <p:par>
                                <p:cTn id="1297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2550"/>
                            </p:stCondLst>
                            <p:childTnLst>
                              <p:par>
                                <p:cTn id="1309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3200"/>
                            </p:stCondLst>
                            <p:childTnLst>
                              <p:par>
                                <p:cTn id="1321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750"/>
                            </p:stCondLst>
                            <p:childTnLst>
                              <p:par>
                                <p:cTn id="133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4250"/>
                            </p:stCondLst>
                            <p:childTnLst>
                              <p:par>
                                <p:cTn id="134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4900"/>
                            </p:stCondLst>
                            <p:childTnLst>
                              <p:par>
                                <p:cTn id="1357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5450"/>
                            </p:stCondLst>
                            <p:childTnLst>
                              <p:par>
                                <p:cTn id="136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6050"/>
                            </p:stCondLst>
                            <p:childTnLst>
                              <p:par>
                                <p:cTn id="137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6700"/>
                            </p:stCondLst>
                            <p:childTnLst>
                              <p:par>
                                <p:cTn id="138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7200"/>
                            </p:stCondLst>
                            <p:childTnLst>
                              <p:par>
                                <p:cTn id="139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7750"/>
                            </p:stCondLst>
                            <p:childTnLst>
                              <p:par>
                                <p:cTn id="140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8250"/>
                            </p:stCondLst>
                            <p:childTnLst>
                              <p:par>
                                <p:cTn id="141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11360" y="2781360"/>
            <a:ext cx="7719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6000" spc="-1" strike="noStrike">
                <a:solidFill>
                  <a:srgbClr val="ffffff"/>
                </a:solidFill>
                <a:latin typeface="Tahoma"/>
              </a:rPr>
              <a:t>MUCHAS GRACIAS</a:t>
            </a:r>
            <a:endParaRPr b="1" lang="en-US" sz="6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0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3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5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36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0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0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2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6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0" dur="5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4" dur="500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8" dur="500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fill="hold">
                      <p:stCondLst>
                        <p:cond delay="0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9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3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7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1" dur="5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5" dur="500"/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9" dur="5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3" dur="500"/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fill="hold">
                      <p:stCondLst>
                        <p:cond delay="0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0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9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3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0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6" dur="indefinite" restart="never" nodeType="tmRoot">
          <p:childTnLst>
            <p:seq>
              <p:cTn id="1597" dur="indefinite" nodeType="mainSeq">
                <p:childTnLst>
                  <p:par>
                    <p:cTn id="1598" fill="hold">
                      <p:stCondLst>
                        <p:cond delay="0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500"/>
                            </p:stCondLst>
                            <p:childTnLst>
                              <p:par>
                                <p:cTn id="16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6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0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4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8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0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2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500"/>
                            </p:stCondLst>
                            <p:childTnLst>
                              <p:par>
                                <p:cTn id="16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9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3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24000" y="3273480"/>
          <a:ext cx="3958920" cy="269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73480"/>
                    <a:ext cx="395892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900000" y="6095880"/>
            <a:ext cx="24526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Penn World Tab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étodo utilizado: Laspey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076720" y="1779480"/>
          <a:ext cx="3959280" cy="269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779480"/>
                    <a:ext cx="39592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6443640" y="4599000"/>
            <a:ext cx="24494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Penn World 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etodo: Precios constantes en 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User</cp:lastModifiedBy>
  <dcterms:modified xsi:type="dcterms:W3CDTF">2004-07-15T03:38:29Z</dcterms:modified>
  <cp:revision>650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12261219</vt:r8>
  </property>
  <property fmtid="{D5CDD505-2E9C-101B-9397-08002B2CF9AE}" pid="3" name="_AuthorEmail">
    <vt:lpwstr>disasi@comexperu.org.pe</vt:lpwstr>
  </property>
  <property fmtid="{D5CDD505-2E9C-101B-9397-08002B2CF9AE}" pid="4" name="_AuthorEmailDisplayName">
    <vt:lpwstr>Diego Isasi</vt:lpwstr>
  </property>
  <property fmtid="{D5CDD505-2E9C-101B-9397-08002B2CF9AE}" pid="5" name="_EmailSubject">
    <vt:lpwstr>Presentación power point</vt:lpwstr>
  </property>
  <property fmtid="{D5CDD505-2E9C-101B-9397-08002B2CF9AE}" pid="6" name="_PreviousAdHocReviewCycleID">
    <vt:r8>1947882776</vt:r8>
  </property>
  <property fmtid="{D5CDD505-2E9C-101B-9397-08002B2CF9AE}" pid="7" name="_ReviewingToolsShownOnce">
    <vt:lpwstr/>
  </property>
</Properties>
</file>