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FB2F-4A3C-41AA-8653-1C6ABF27B6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7F0-B9FB-4E48-9BB9-ED3CF74B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203-667F-4B49-9F5D-25751FFB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1FF-0326-41F9-85F7-F3F73FBA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F05-F351-4C95-880D-E8B0B447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4F51-E81C-4A68-A646-826EAE04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37AA-0826-43B4-8395-5EDD8D57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C82F-DE1B-4CA2-9F6C-51137332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A7DD-0CC5-40DE-9D65-E43D92CC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B090-8E0B-438A-AC69-2FED1F3C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21A3-8315-48B4-B68B-138A2541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FE41-C275-458B-8A73-37681F4A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298-FD7F-4DBC-A41E-33998F81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0778-6061-4627-BBD3-C7D41F0B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E054-A8DD-4467-A937-743D476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5C4E-3386-486C-88A0-57E41D6E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6DC1-A3A2-43CD-8E06-CEDDC3DE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72AC-EBB9-46D0-9137-EB86D2B3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1C1-7298-43AD-B61E-5C398AAD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0A8-752A-492F-AE3C-A0431E2B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36E-78E8-4436-9323-0337466D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DB6-B009-4744-9B73-FC9D373D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191-235B-44CD-9FFE-A76A402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BFE-F74D-41D5-A734-CE9C3EF5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F3F-E420-4485-96C1-3797C82C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318C-1D7E-4C14-8FA2-A5985099D3E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EC6A-D1D1-4696-A6CC-B71A81F3809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496960" y="2060640"/>
            <a:ext cx="4150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500"/>
                            </p:stCondLst>
                            <p:childTnLst>
                              <p:par>
                                <p:cTn id="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2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05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7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7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8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650"/>
                            </p:stCondLst>
                            <p:childTnLst>
                              <p:par>
                                <p:cTn id="1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8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550"/>
                            </p:stCondLst>
                            <p:childTnLst>
                              <p:par>
                                <p:cTn id="1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1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550"/>
                            </p:stCondLst>
                            <p:childTnLst>
                              <p:par>
                                <p:cTn id="1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9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550"/>
                            </p:stCondLst>
                            <p:childTnLst>
                              <p:par>
                                <p:cTn id="130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750"/>
                            </p:stCondLst>
                            <p:childTnLst>
                              <p:par>
                                <p:cTn id="133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13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450"/>
                            </p:stCondLst>
                            <p:childTnLst>
                              <p:par>
                                <p:cTn id="136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6050"/>
                            </p:stCondLst>
                            <p:childTnLst>
                              <p:par>
                                <p:cTn id="137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6700"/>
                            </p:stCondLst>
                            <p:childTnLst>
                              <p:par>
                                <p:cTn id="138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7750"/>
                            </p:stCondLst>
                            <p:childTnLst>
                              <p:par>
                                <p:cTn id="14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4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3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0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38:29Z</dcterms:modified>
  <cp:revision>650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